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42A8-4623-4AD0-8D93-1E1EE356A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013-EAC9-4732-BFBF-DF82F4BF7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7AD7-A07B-4EA7-8843-8C46D6BFE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769-1FE8-414F-B613-1F04A16D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FD9-35A9-421E-A92F-484BFCA8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5C9-BB78-4934-882A-D6D19B99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6D5-21E0-4146-A09E-C4757B0C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BB0-BD8D-49C9-8436-DF6853E9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656-F864-4FC9-AD3A-A96DAB71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4EF-A377-4DE0-AF05-76C45F1C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755-AF2D-4B2E-BA9D-048E279D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CC7-F532-4FE6-A20C-A34B7577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7C8-2A9B-4960-BDE7-BBDACF3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B9A-5DC7-4CBD-9B38-DE8ADB85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A14-7A64-4744-A4A7-0E6133BB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C247-210A-4057-9A83-D2BFC9A61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ancientmacedonia.com/image01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rogulka.kiev.ua/nphoto/1027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762120" y="1066680"/>
            <a:ext cx="76960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567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рдиев узел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567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533520" y="114300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рдиевым узлом  называют любое запутанное дело, трудно разрешимый вопрос. «Разбудить гордиев узел» значит: смело, энергично решить сложное дел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28600" y="184320"/>
            <a:ext cx="861048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505320" y="1905120"/>
            <a:ext cx="525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греческой мифологии Гордий - первый царь Фригии, эпоним одноименного города в Малой Азии. Гордий был простым земледельцем, и однажды во время пахоты орел сел на ярмо его волов. Это было истолковано как знамение, предвещающее Гордию царскую власть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752480" y="380880"/>
            <a:ext cx="6096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диев узел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2" descr="Картинка 6 из 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133720"/>
            <a:ext cx="3130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762120" y="419112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скоре фригийцы, оставшись без правителя, обратились за советом к оракулу, кого выбрать царем. Оракул предсказал, что надо избрать того, кого они первым встретят едущим на повозке. Этим человеком оказался Гор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1 из 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52280"/>
            <a:ext cx="60958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4267080" y="428760"/>
            <a:ext cx="4419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ав царем, он выстроил город, получивший его имя, и поставил в цитадели свою повозку, опутав ее ярмо сложнейшим узлом. Гордий умер в 738 году до нашей эры. Больше 400 лет стояла колесница в храме, оставался завязанным и царёв узел. Считалось, что тот, кто распутает этот узел, станет правителем всей Азии. По преданию, Александр Македонский в 334 г. до н.э. вместо распутывания узла просто разрубил его мечом, откуда и пошло выражение "разрубить гордиев узел" - принять быстрое и смело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Александр Македонский"/>
          <p:cNvPicPr/>
          <p:nvPr/>
        </p:nvPicPr>
        <p:blipFill>
          <a:blip r:embed="rId1"/>
          <a:stretch/>
        </p:blipFill>
        <p:spPr>
          <a:xfrm>
            <a:off x="228600" y="685800"/>
            <a:ext cx="3809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2" descr=""/>
          <p:cNvPicPr/>
          <p:nvPr/>
        </p:nvPicPr>
        <p:blipFill>
          <a:blip r:embed="rId1"/>
          <a:stretch/>
        </p:blipFill>
        <p:spPr>
          <a:xfrm>
            <a:off x="2432160" y="3425760"/>
            <a:ext cx="195120" cy="17622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450720"/>
            <a:ext cx="9004320" cy="933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1908000" y="317520"/>
            <a:ext cx="384480" cy="93168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0" descr=""/>
          <p:cNvPicPr/>
          <p:nvPr/>
        </p:nvPicPr>
        <p:blipFill>
          <a:blip r:embed="rId4"/>
          <a:stretch/>
        </p:blipFill>
        <p:spPr>
          <a:xfrm>
            <a:off x="444600" y="755640"/>
            <a:ext cx="82486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09-11-19T08:40:3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